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7349-E043-4918-A312-7969BDDB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2383-934D-45FE-8030-2AFE54F2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6628-978C-49B6-80A4-245E504D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B1FF-0BDC-4930-8C50-F27B1E34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E1FE-09D0-4FAD-866B-E5B8C38B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E60F-6901-4C2A-93A3-806A1C31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F904-7A2A-4898-BB8A-6F58F229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527A-8F86-40A1-83BE-475085EF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8615-48DB-4B4D-B1CD-9F8A0A9B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6E16-E95E-4D9E-BF6A-FC0A62F2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3E57-0AC1-4022-BB97-EAA88E7C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CC0-C0E4-4934-8C27-B75D8FCB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B225-195E-44C1-82D0-D8C24BC0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9930-4481-42B8-9C99-94F1FFF8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0B04-C213-4E7F-BAC2-179154CF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4040-9CDD-4D52-94B9-79958E7E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B8B3-0471-4F41-9186-71C1921D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C584-A115-4474-9924-26939096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7AC-B604-4687-B1F1-76DB38F6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A41-237D-4118-BD64-A3FBE4AC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772-5782-4E74-951A-1BECE127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96FF-D617-463E-BE85-D17CCE92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6E5D-3957-4082-824F-FB340AE3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E23E-80A1-4D18-86B6-AE19F1F5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F65A-9353-4B35-BB01-69022197CC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2B53-84CC-4601-974D-2B6198DBC1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-astronomy.mps.ohio-state.edu/~pogge/Ast161/Unit1/numbers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ffffb7"/>
                </a:solidFill>
                <a:latin typeface="Arial Black"/>
              </a:rPr>
              <a:t>El Tiempo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na Breve Expl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b7"/>
                </a:solidFill>
                <a:latin typeface="Arial Black"/>
              </a:rPr>
              <a:t>Consecuencias de este espacio para la Teoría de Relatividad Gral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n problema no insignificante – según la mécanica Newtoniana, efectos gravitaciónales son instantaneas, o sea, movimiento de un cuerpo masivo afecta inmediatamente a otro cuerpo masivo – o sea, a velocidad infinita, cosa que causa conflicto con la relatividad que sostiene que C es la mayor velocidad que exis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Continuación – Relatividad Gener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Relatividad General (Einstein 1915) sostiene que este espacio 4-dimensional tiene una deformación debido a la distribución de masa (o energía, son equivalentes por E=mc</a:t>
            </a:r>
            <a:r>
              <a:rPr b="0" lang="es-CL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uego, objetos que aparentan mover en recorridos que no corresponden a la métrica más corta en nuestra visión 3-dimensionales, en realidad siguen el recorrido más corto según la métrica 4-dimensional que incluye los efectos de las mas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El papel de la Luz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luz es afectada también, por viajar en rectas en el espacio 3dimensional que nosotros observamos, debe viajar en curvas en el “tiempoespacio” 4dimens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ecuencia – la gravedad tiene el efecto de entorpecer la luz, y desde luego el tiempo – un observador en un campo gravitacional más fuerte tiene un tiempo más lento que un observado en un campo más debil. (Esto tiene consecuencias practicas para la navegación, etc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El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 una consecuencia de la relatividad general (como demostrado por S. Hawking) que el universo nuestro tiene un principio, es finito, expande, y posiblemente tiene un f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 el universo expanda tan rápido que nunca puede decelerar totalmente, y eventualmente llega a un equilibrio de expansión, donde la fuerza de gravedad iguala a la fuerza expansiv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 eventualmente la gravedad causara una contracción que resultara en la devolución al estado original del universo (pre- big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equilibri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Devolución al estado pre-big ba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Hoyos negros y Viajes por El tiemp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xisten fenómenos llamados “hoyos negros” que se forman cuando una estrella de masa suficiente agota su combustible, debido a esto agota su resistencia a la fuerza gravitacional.  Toda la masa lo comprime en un punto limite de densidad infinito.  Obviamente la cantidad de masa infinita tiene consecuencias graves para las metricas del espacio 4 dimens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teoría es posible (pero muy improbable) que un observador atraído por las fuerzas gravitacionales de la masa se podría encontrar de repente en otra región de tiempo-espacio (el llamado hoyo-gusan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Analogia de viaje por tiempo espaci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43040" y="1905120"/>
            <a:ext cx="6396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Conclus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awking demuestra optimismo de que estamos bastante cerca al descubrimiento de una teoría univers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un eso no implica que haya comprensión completa de todos los eventos que ocurren a nuestro alrede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Fuentes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-astronomy.mps.ohio-state.edu/~pogge/Ast161/Unit1/numb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awking, Stephen, </a:t>
            </a:r>
            <a:r>
              <a:rPr b="0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A Brief History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Contenid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dición d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incipios d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ctualidad d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uturo d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mplicaciones para Nosot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La medición del tiemp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l segundo (En SI, el sistema MK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riginalmente definido como 1/86,400 del día terrest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hora definido como 9,192,631,770 oscilaciones de un reloj que usa Cesio Cs</a:t>
            </a:r>
            <a:r>
              <a:rPr b="0" lang="es-CL" sz="2800" spc="-1" strike="noStrike" baseline="30000">
                <a:solidFill>
                  <a:srgbClr val="ffffff"/>
                </a:solidFill>
                <a:latin typeface="Arial"/>
              </a:rPr>
              <a:t>133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Ya veremos que el tiempo es mucho más complicado de lo que se desprende de sus un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La primera noción de Tiemp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idere que un evento ocurre dentro de un marco de referencia estacionario – entonces puede ocurrir dos eventos a diferentes tiempos en el mismo lugar del espa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or contraste, para una persona que observa desde un marco no estacionario respecto al primer marco, dos eventos en diferentes tiempos nunca ocurren en el mismo lugar del espa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Algunos 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o fue perturbador para los que creían en posición absoluto, desde luego ellos se creían en una medición absoluto del tiempo – que existiera un tiempo universal que separará dos mismos eventos de manera unica para toda posició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Un Valor Absoluto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próximo paso fue descubrir la naturaleza de la Luz, siendo que existen muchos conflictos al respe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stiones de propagación, velocidad relativo, etc. – eventualmente resuelto experimentalmente llegando al valor C como velocidad de la luz, constante en todo marco de refere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Diferencias entre Teoría de Relatividad y la Clási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xisten diferencias entre lo que pasa con el tiempo que ocupa un pulso de luz en viajar una distancia en la mecánica Newtoniana y la de relativ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ara la Newtoniana, como tiempo es absoluto, espacio variable, V. de luz camb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ara Relatividad, Tiempo Variable, espacio variable, V. de luz luego puede ser constante (como es confirmado experimentalment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Transición a la modernidad del Tiemp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hora, en la consideración de estos hechos, se puede definir una distancia como un “luz-segundo”, o la distancia que viaja un pulso de luz en un segundo, consecuencia siendo que un metro es igual a cierto porcentaje del “luz-segund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hora, es importante considerar que en “luz” de estos hechos, el tiempo y el espacio no son muy diferent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Tiempo como la 4rta Dimens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Justamente por lo anterior, podemos justificar que el tiempo es otra dimensión más en un espacio de 4 dimension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sando la definición de espacio como luz segundo, es fácil crear definiciones de la distancia en este espacio de 4 dimensiones (es un espacio métric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02:02:24Z</dcterms:created>
  <dc:creator>Alexander Sideman</dc:creator>
  <dc:description/>
  <dc:language>en-US</dc:language>
  <cp:lastModifiedBy>Alexander Sideman</cp:lastModifiedBy>
  <dcterms:modified xsi:type="dcterms:W3CDTF">2004-08-27T17:31:01Z</dcterms:modified>
  <cp:revision>3</cp:revision>
  <dc:subject/>
  <dc:title>El Tiempo</dc:title>
</cp:coreProperties>
</file>